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139-F0B5-42ED-AE30-017C4EBC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8DF-D45C-4E46-A828-0B439166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4C9-6D93-4AA8-8D62-7122E973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2EB-C0F4-44DA-8378-BE6CBC74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D6AC-4230-4AB9-88C1-A863D8BC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E7F1-8498-4462-B6F0-13682E3C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484F-8042-4164-9293-C1FC29FE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C18B-016E-4349-A0DA-66664320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0CC1-C562-4C1E-BE26-54177364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A89B-6608-4EFE-A2B3-149B9ADA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27D6-7298-40CB-A139-6CDACB1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D47-2636-40E5-A0A4-3A0DA8F8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3818-43C4-44F4-B557-6118CC7E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A400-A944-497D-A8E2-9487059B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2FB2-19A8-471E-BCAB-04A9BF2C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6C40-A5F6-4435-AEDE-684362F4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85B9-A4E5-47BA-B1ED-0100ECFB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8BD-4E7B-4402-B16B-F9BF4CD4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8BB-2901-4D58-912A-E3DF04F7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16D-838F-4A0A-A6AF-521BB73F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136-6360-4031-8FD2-387E78F3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192-5192-4D7E-A69B-B9E5BB59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0E1-6F1A-42A8-87A6-7517798B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64C-5DAD-4876-BF89-2EAFEBE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6282-0F56-43E8-972E-6CFBBCDC1ED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3469-AD22-419B-901A-ED281F44DD7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Sonne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sonnet 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yric po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isting of fourteen li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ritten in iambic pentame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h a definite rhyme sche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a definite thought struc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lyric poem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Deals with emotions, feeling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29718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ambic pentameter consists o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ve measures, units, or meters, of iamb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s is a rhythmical pattern of syllab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ambic’ means that the rhythm goes from an unstressed syllable to a stressed on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amples:  divine, caress, bizarre, deligh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unds like a heartbeat: daDUM, daDUM, daD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12408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An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iamb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is a metrical foot consisting of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an unaccented syllable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U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ollowed by an accented syllable </a:t>
            </a:r>
            <a:r>
              <a:rPr b="0" lang="en-US" sz="4000" spc="-1" strike="noStrike">
                <a:solidFill>
                  <a:srgbClr val="66ff33"/>
                </a:solidFill>
                <a:latin typeface="Verdana"/>
              </a:rPr>
              <a:t>/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                  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U      /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    gai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</a:rPr>
              <a:t>U        /      U      /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m    mor    tal    iz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ambic pentamet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/   U    /      U     /    U    /    U   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ne day I wrote her name u pon the strand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 /     U       /     U      /     U / U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t came the waves and wash ed it a way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/  U    /    U    /    U   /   U 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gain I wrote it with a sec ond hand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     /     U    /      U      /     U     /      U    /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t came the tide, and made my pains his pre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Edmund Spenser, Amoretti, Sonnet 75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18288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5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2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3               4                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hyme sche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trarchan (Italian) rime schem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ba, abba, cd, cd, c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ba, abba, cde, c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akespearean (English, or Elizabethan) rime schem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ab, cdcd, efef, g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nnet 1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hall I compare thee to a summer's 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y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ou art more lovely and more temper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at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ough winds do shake the darling buds of M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y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summer's lease hath all too short a d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at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metime too hot the eye of heaven sh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ne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often is his gold complexion d</a:t>
            </a:r>
            <a:r>
              <a:rPr b="0" lang="en-US" sz="2000" spc="-1" strike="noStrike">
                <a:solidFill>
                  <a:srgbClr val="66ffcc"/>
                </a:solidFill>
                <a:latin typeface="Verdana"/>
              </a:rPr>
              <a:t>imm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d every fair from fair sometime decl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ne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y chance, or nature's changing course untr</a:t>
            </a:r>
            <a:r>
              <a:rPr b="0" lang="en-US" sz="2000" spc="-1" strike="noStrike">
                <a:solidFill>
                  <a:srgbClr val="66ffcc"/>
                </a:solidFill>
                <a:latin typeface="Verdana"/>
              </a:rPr>
              <a:t>immed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ut thy eternal summer shall not f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a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r lose possession of that fair thou </a:t>
            </a:r>
            <a:r>
              <a:rPr b="0" lang="en-US" sz="2000" spc="-1" strike="noStrike">
                <a:solidFill>
                  <a:srgbClr val="eec85e"/>
                </a:solidFill>
                <a:latin typeface="Verdana"/>
              </a:rPr>
              <a:t>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r shall death brag thou wander'st in his sh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a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en in eternal lines to time thou gr</a:t>
            </a:r>
            <a:r>
              <a:rPr b="0" lang="en-US" sz="2000" spc="-1" strike="noStrike">
                <a:solidFill>
                  <a:srgbClr val="eec85e"/>
                </a:solidFill>
                <a:latin typeface="Verdana"/>
              </a:rPr>
              <a:t>ow's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as men can breathe, or eyes can s</a:t>
            </a:r>
            <a:r>
              <a:rPr b="0" lang="en-US" sz="2000" spc="-1" strike="noStrike">
                <a:solidFill>
                  <a:srgbClr val="aa8456"/>
                </a:solidFill>
                <a:latin typeface="Verdana"/>
              </a:rPr>
              <a:t>e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long lives this, and this gives life to th</a:t>
            </a:r>
            <a:r>
              <a:rPr b="0" lang="en-US" sz="2000" spc="-1" strike="noStrike">
                <a:solidFill>
                  <a:srgbClr val="aa8456"/>
                </a:solidFill>
                <a:latin typeface="Verdana"/>
              </a:rPr>
              <a:t>e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1676520"/>
            <a:ext cx="761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c85e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c85e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a8456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a8456"/>
                </a:solidFill>
                <a:latin typeface="Verdana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3:24:15Z</dcterms:created>
  <dc:creator>Rudolph J Schatz</dc:creator>
  <dc:description/>
  <dc:language>en-US</dc:language>
  <cp:lastModifiedBy>student</cp:lastModifiedBy>
  <dcterms:modified xsi:type="dcterms:W3CDTF">2010-11-08T15:31:54Z</dcterms:modified>
  <cp:revision>74</cp:revision>
  <dc:subject/>
  <dc:title>The Sonnet</dc:title>
</cp:coreProperties>
</file>